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jpeg" ContentType="image/jpeg"/>
  <Override PartName="/ppt/media/image13.wmf" ContentType="image/x-wmf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oh_yeah.wav" ContentType="audio/x-wav"/>
  <Override PartName="/ppt/media/this_is_the_end_x.wav" ContentType="audio/x-wav"/>
  <Override PartName="/ppt/media/image7.gif" ContentType="image/gif"/>
  <Override PartName="/ppt/media/applause.wav" ContentType="audio/x-wav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011-B8CE-4E35-ACA2-3A9A5CB5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08D-3B09-42AA-AA6A-924C198B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68B-9B34-402A-A92E-2E143483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CFF-E3AE-4EEE-B56D-9E3F6082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D618-7D6F-406F-9D25-1730126E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CE25-6BEC-45ED-B996-0A4348A8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4999-108A-47C1-8036-BAFEE46D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15F-4471-4461-ADE8-6439C43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F130-6672-4808-AB3B-62749D2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0848-0D97-407B-9094-AE6BE760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8604-6597-4B74-B73A-4221EA9B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8D8-88A0-4135-805F-9FC43D0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47FE-8348-4904-B0F2-AE1EAB2A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D45A-14F4-47B8-880F-16E93394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542A-AEF5-4C73-9237-28BFB7D7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003-5CDC-4BCA-9746-F34E1CF1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99F4-0FF2-44D2-9504-016D6735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774-3B43-4390-A516-4DB7AD7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329-4F15-49C2-9FEC-F3AE1F6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98C-C472-4A1F-B29E-7A93468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AF4-438A-4B0C-BCC5-884CA980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3C2-C858-4B22-91DF-9D8172C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106-AFD2-469C-93A9-DB0EC43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03E-E6FD-410E-AF91-0E5346E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87A-C709-437F-A50F-75D905B30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91C-C5C1-43A1-844F-FC0F44364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file:///tmp/home/.config/libreoffice/4/user/gallery/oh_yeah.wav" TargetMode="External"/><Relationship Id="rId3" Type="http://schemas.microsoft.com/office/2007/relationships/media" Target="file:///tmp/home/.config/libreoffice/4/user/gallery/oh_yeah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SN00047A.wav" TargetMode="External"/><Relationship Id="rId3" Type="http://schemas.microsoft.com/office/2007/relationships/media" Target="file:///tmp/home/.config/libreoffice/4/user/gallery/SN00047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his_is_the_end_x.wav" TargetMode="External"/><Relationship Id="rId2" Type="http://schemas.microsoft.com/office/2007/relationships/media" Target="file:///tmp/home/.config/libreoffice/4/user/gallery/this_is_the_end_x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oh_yea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this_is_the_end_x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600200" y="53352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1" name="Picture 3" descr="C:\images and sounds\people\detectiv2.gif"/>
          <p:cNvPicPr/>
          <p:nvPr/>
        </p:nvPicPr>
        <p:blipFill>
          <a:blip r:embed="rId3"/>
          <a:stretch/>
        </p:blipFill>
        <p:spPr>
          <a:xfrm>
            <a:off x="3048120" y="3276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057400" y="2666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43000" y="160020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When you draw a conclusion you        use 2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096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 know 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1911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33720" y="42670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’ve read in the sto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19320" y="518148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 conclusion is the decision you come to when you put these two togeth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1219320" y="53352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Drawing Conclusions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-838080" y="1905120"/>
            <a:ext cx="81532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sleep in a cri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drink from a bo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cannot walk o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52880" y="1981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sleep in cri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05520" y="2666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drink bot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81480" y="35053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can’t do these things y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956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ust be a bab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C:\Documents and Settings\Melissa  Caro\Application Data\Microsoft\Media Catalog\Downloaded Clips\cl92\j0365298.gif"/>
          <p:cNvPicPr/>
          <p:nvPr/>
        </p:nvPicPr>
        <p:blipFill>
          <a:blip r:embed="rId1"/>
          <a:stretch/>
        </p:blipFill>
        <p:spPr>
          <a:xfrm>
            <a:off x="617220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1447920" y="45720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or Example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99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38080" y="1676520"/>
            <a:ext cx="541044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ut me on your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will keep you         warm and d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ear me when it r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952880" y="21337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you wear socks and shoes on your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876920" y="3048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Both of these keep you warm, but only shoes keep you d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143000" y="45720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do you wear, on your     feet, when it ra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219320" y="5257800"/>
            <a:ext cx="403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rainboot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8" descr="C:\Documents and Settings\Melissa  Caro\Application Data\Microsoft\Media Catalog\Downloaded Clips\cl0\AG00501_.gif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302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1828800" y="4572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t's Try Again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553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19810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ou need me before you can mail a letter. Paste me on an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ur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 rot="20840400">
            <a:off x="1066680" y="327636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postman, an envelope, and a stamp to mail a l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 rot="6600">
            <a:off x="6095880" y="3276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Only one of these would be pasted onto an envelop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C:\Documents and Settings\Melissa  Caro\Application Data\Microsoft\Media Catalog\Downloaded Clips\cl0\bs00737_.wmf"/>
          <p:cNvPicPr/>
          <p:nvPr/>
        </p:nvPicPr>
        <p:blipFill>
          <a:blip r:embed="rId1"/>
          <a:stretch/>
        </p:blipFill>
        <p:spPr>
          <a:xfrm>
            <a:off x="4191120" y="3733920"/>
            <a:ext cx="13716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167652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 am white.  You need me every day.  You drink me when you are thirsty.  I can make a moust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nd Agai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1066680" y="3048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ts of things are whi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24852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lot of th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43000" y="3962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white and you drin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029200" y="4114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AND, It makes a moustach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0" name="Picture 6" descr="http://www.thisevilempire.com/photos/jonahmilkm.jpg"/>
          <p:cNvPicPr/>
          <p:nvPr/>
        </p:nvPicPr>
        <p:blipFill>
          <a:blip r:embed="rId4"/>
          <a:stretch/>
        </p:blipFill>
        <p:spPr>
          <a:xfrm>
            <a:off x="5495760" y="4267080"/>
            <a:ext cx="24447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95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1752480"/>
            <a:ext cx="8153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look like a bab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You can give me a n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hildren like to play with 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 are AWESOME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1440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looks like a ba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400800" y="1905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Dolls?  Pictures? Hm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90720" y="38862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can name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80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Children play with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9" name="Picture 10" descr="C:\Documents and Settings\Melissa  Caro\Application Data\Microsoft\Media Catalog\Downloaded Clips\cl46\j0175479.jpg"/>
          <p:cNvPicPr/>
          <p:nvPr/>
        </p:nvPicPr>
        <p:blipFill>
          <a:blip r:embed="rId1"/>
          <a:stretch/>
        </p:blipFill>
        <p:spPr>
          <a:xfrm>
            <a:off x="3048120" y="1447920"/>
            <a:ext cx="3360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h_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1600200"/>
            <a:ext cx="73911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grow on an ear.  Cook me in hot oil.  I will puff up and taste good.  Some people microwave me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st Time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14400" y="30481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grows on an ear?  Ear wax?  Earrings?  Cor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0080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wouldn’t cook or taste ear wax or ear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133720" y="4267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corn will puff up and it is sometimes cooked in the microwa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7" name="Picture 10" descr="C:\Documents and Settings\Melissa  Caro\Application Data\Microsoft\Media Catalog\Downloaded Clips\cl64\j0250766.wmf"/>
          <p:cNvPicPr/>
          <p:nvPr/>
        </p:nvPicPr>
        <p:blipFill>
          <a:blip r:embed="rId1"/>
          <a:stretch/>
        </p:blipFill>
        <p:spPr>
          <a:xfrm>
            <a:off x="2286000" y="838080"/>
            <a:ext cx="5146560" cy="601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69343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3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40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8"/>
                            </p:stCondLst>
                            <p:childTnLst>
                              <p:par>
                                <p:cTn id="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40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Melissa  Caro\Application Data\Microsoft\Media Catalog\Downloaded Clips\cl3e\j0156953.wmf"/>
          <p:cNvPicPr/>
          <p:nvPr/>
        </p:nvPicPr>
        <p:blipFill>
          <a:blip r:embed="rId1"/>
          <a:stretch/>
        </p:blipFill>
        <p:spPr>
          <a:xfrm>
            <a:off x="1523880" y="1219320"/>
            <a:ext cx="65534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_is_the_end_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44:37Z</dcterms:created>
  <dc:creator>Melissa Caro</dc:creator>
  <dc:description/>
  <dc:language>en-US</dc:language>
  <cp:lastModifiedBy>teacher</cp:lastModifiedBy>
  <dcterms:modified xsi:type="dcterms:W3CDTF">2011-10-19T18:45:48Z</dcterms:modified>
  <cp:revision>21</cp:revision>
  <dc:subject/>
  <dc:title>PowerPoint Presentation</dc:title>
</cp:coreProperties>
</file>